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4F5-4ABF-4C22-946F-8262D7455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FB61-4201-43FC-A43F-A79C6613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6E26-F588-440B-A08B-589E44776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8FB-6C9D-41CC-A30A-4ADCABBB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6ADE-524D-433B-B1DD-E5DFB8BF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991-26C0-4D85-BB92-96D584D8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5482-0E00-42E9-A597-B24B6520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5AA-3495-4762-B05A-FD08C8BD5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908A-C96A-464B-997C-E56CD0848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6A4E-EE40-4FAC-AA4D-470C38B4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553F-CACE-4775-A997-1D45EB87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3C2E-595F-460B-95A8-E0361E5A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92DE-3571-4A42-8DFE-3A99B636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a level foreca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76212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Quiana Harr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crow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creasing floods is causing people who live in Kiribati islands to move in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rson told the report that if they keep moving we’re in danger of falling 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there are roughly about 100,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 in the capital of Tarawa, Tarawa is suffering from overcrowding. These people have no where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18:01Z</dcterms:created>
  <dc:creator>PA Department of Education</dc:creator>
  <dc:description/>
  <dc:language>en-US</dc:language>
  <cp:lastModifiedBy>PA Department of Education</cp:lastModifiedBy>
  <dcterms:modified xsi:type="dcterms:W3CDTF">2009-05-29T18:20:25Z</dcterms:modified>
  <cp:revision>3</cp:revision>
  <dc:subject/>
  <dc:title>Sea level forecasting</dc:title>
</cp:coreProperties>
</file>